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7F6D-0C9A-4C1A-81AF-A0D8F04D5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36D7-5774-4E6A-8DEF-8A53B82D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6B69-4092-4791-BCA8-04246358A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B692-D198-4622-BC05-1309ACDD4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E85A-7564-4875-AA6F-6F301265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D061-A99D-4AC7-BB75-3BB2F541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0311-EE2B-484F-BEF1-0F99C55D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6267-FCC6-43F7-AF33-68D576BF1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B5A1-94F2-4DDC-AEB4-4DED321E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1772-8C02-44E3-9182-2540F903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96E2-C8B1-4340-AF83-E53C48A5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9714-6CF8-4DD0-839F-C04032CA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5FFD-C108-444D-8B45-78FEF5DBE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_IrFm0u2l84&amp;feature=related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orte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Forte"/>
              </a:rPr>
              <a:t>The Scarlet Letter”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3352680" y="3048120"/>
            <a:ext cx="238140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arlet Letter takes place in the seventeenth century Boston, which was then a Puritan settl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young woman Hester Prynne is escorted, from the town prison with her infant daughter Pear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ster committed the sin of adultery, and refused to give the name of the man who she committed adultery wi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 Overview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ster wears the scarlet letter over her bosom for punishment and stands on the scaffold, to be publicly shamed and humiliat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ster’s Roger Chillingworth lived in Europe at the time of Hester’s sin of adultery, disguises himself as a doctor to discover Hester’s secret of who she committed the sin wi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mmesd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itted the sin of adultery with He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deals with the impact of his sin by punishing himself physically and psychologicall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_IrFm0u2l84&amp;feature=rela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mes, Symbols, Moti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, Evil, 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of Sin in the no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ster wears the Scarlet Letter upon her bosom has a punishment for her sin of adult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of E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ster’s daughter Pearl is portrayed as a mischievous child, townspeople believe her father is the devi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ages in odd behavior dealing with her mother’s scarlet letter upon her bos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 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fants eyes had been caught by a glimmering of the gold embroidery about the letter; and, putting up her little hand, she grasped at it smiling, not doubtfully, but with a decided gleam that gave her the look of a much older child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b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carlet L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t to be viewed as a symbol of shame, however throughout the novel the symbol became a symbol of identity to He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he light and graceful foliage of her character had been withered away up by this red hot brand, and had long ago fallen away, leaving a bare and harsh outline, which might have been repulsive, had she possessed friends or companions to be repelled by i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a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arl is a symbol of the consequence of her mothers sin and the reason Hester decided to liv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arl” as being of great price, purchased with all she had,- her mother’s only treasure!.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ght Versus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ylight exposes Hester’s activities to make her more vulnerable to punish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they have doomed Mistress Prynne to stand only a space of three hours on the pillory…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ght conceals activities that would not be possible throughout the d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us while standing on the scaffold, in this vain show of expiation, Mr. Dimmesdale was overcome with a great horror of mind, as if the universe were gazing at a scarlet token on his naked breast, right over his hear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mmesdale was able to relieve the guilt of his sin without public shame by shaming himself upon the scaffold at night where no one could be a witness to his punishment he inflicted upon himself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youtube.com/watch?v=kxOyIDi6R4I&amp;feature=rel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en.wikipedia.org/wiki/The_Scarlet_L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ps http://www.youtube.com/watch?v=kxOyIDi6R4I&amp;feature=re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youtube.com/watch?v=_IrFm0u2l84&amp;feature=re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00:05:18Z</dcterms:created>
  <dc:creator>Kate</dc:creator>
  <dc:description/>
  <dc:language>en-US</dc:language>
  <cp:lastModifiedBy>aphs.shubertab</cp:lastModifiedBy>
  <dcterms:modified xsi:type="dcterms:W3CDTF">2012-01-12T15:35:38Z</dcterms:modified>
  <cp:revision>4</cp:revision>
  <dc:subject/>
  <dc:title>“The Scarlet Letter”   </dc:title>
</cp:coreProperties>
</file>